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832-B456-4848-AEC0-1B24160C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33F-14EF-4CA1-9F4A-F0660C9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6C0-E297-4F35-80CE-232E463D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232-FD85-4469-A39F-6DDB0FD6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ECE6-BFDB-444E-B760-10A3506F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B8BA-B95E-4860-9A84-3BE8261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669-44A1-479C-B67E-3F47F31A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8E67-3EF1-4F28-8042-C0ACF823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1B7C-1E4D-4D51-AE5E-D055053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BDAE-26F6-4730-BA5C-5892931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2D8B-BF44-43EC-A13D-917170D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D15-7264-406F-8B43-9F7D825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BAC-F177-4845-A650-C3125DD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C7D9-4C3F-466A-B870-DC31F34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B1EC-02F9-48DD-9701-D6809F68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3A7-711F-4FEA-BC9E-AA6A6D6B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6B7-1AEA-4A9A-A87D-2E5D44DB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B90-8E15-45C1-AE4C-6FDF4A7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15D-80D6-45F2-8AE3-1D4C61E0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A3D-8C9E-48BD-84A8-7D3D000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E02-60F5-4BEE-B242-1280294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2D2-0652-4B93-932F-B4B945C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AF-D41B-4C20-A4EB-F1C9744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2F4-50CF-4FA6-A7CA-F20C385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46C4-E96B-4200-881C-C7A01439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EB6-BB64-43CB-874C-FC8917ED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Page60r.png" TargetMode="External"/><Relationship Id="rId2" Type="http://schemas.openxmlformats.org/officeDocument/2006/relationships/hyperlink" Target="file:///../Page60r.pn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TPRS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2514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LAP Summer Institut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宋湘雲 老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ffirmative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estion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肯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1"/>
              </a:rPr>
              <a:t>60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2"/>
              </a:rPr>
              <a:t>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肯定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是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ither / or ?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還是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或者”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 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“還是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或者”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</a:t>
            </a:r>
            <a:r>
              <a:rPr b="1" i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看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還是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i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洗澡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看書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 with a negative answer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否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否定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小狗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不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peat affirmative question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重復一遍答案的肯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肯定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是，弟弟在看書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Verdana"/>
                <a:ea typeface="宋体"/>
              </a:rPr>
              <a:t>三合一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不， 那 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不是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… 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那 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例：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桌子嗎？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不， 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不是桌子，  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椅子。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Verdana"/>
                <a:ea typeface="宋体"/>
              </a:rPr>
              <a:t>小組練習 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  <a:ea typeface="宋体"/>
              </a:rPr>
              <a:t>TPR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640" y="1599840"/>
            <a:ext cx="804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每一小組最多三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請從生活華語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課本當中，任選一個教材。運用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TPRS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之技巧，在您所屬的小組裡，示範教學。每一個人輪流試教十分鐘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示範教學完畢後，請提出問題，分享心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Verdana"/>
              </a:rPr>
              <a:t>What is TPRS?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eaching </a:t>
            </a: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roficiency    Through 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eading &amp; </a:t>
            </a: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orytelling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TPRS 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宋体"/>
              </a:rPr>
              <a:t>三步驟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1: Vocabulary (Show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2: Story (Tell/Ask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3: Literacy (Read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ORYTELLING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K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Don’t tell the story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Ask it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Co-create the story with your student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You are the story editor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(NOT the story teller)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209680" y="609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2133360" y="53352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K the STORY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uestioning is the key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ate and ques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ttempt to ask at least 4 questions for each statemen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ow to high level ques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Yes/n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ither/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ll in the blan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? Where? When? Wha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ow? Why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8"/>
          <p:cNvGraphicFramePr/>
          <p:nvPr/>
        </p:nvGraphicFramePr>
        <p:xfrm>
          <a:off x="609480" y="762120"/>
          <a:ext cx="753264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753264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is BEP importa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Bizarre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Exaggerated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Personalized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1480" y="1752480"/>
            <a:ext cx="3925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2" descr="p1"/>
          <p:cNvPicPr/>
          <p:nvPr/>
        </p:nvPicPr>
        <p:blipFill>
          <a:blip r:embed="rId1"/>
          <a:stretch/>
        </p:blipFill>
        <p:spPr>
          <a:xfrm>
            <a:off x="4800600" y="1371600"/>
            <a:ext cx="3733920" cy="27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p2"/>
          <p:cNvPicPr/>
          <p:nvPr/>
        </p:nvPicPr>
        <p:blipFill>
          <a:blip r:embed="rId2"/>
          <a:stretch/>
        </p:blipFill>
        <p:spPr>
          <a:xfrm>
            <a:off x="4724280" y="434340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Circling (Question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boy has a bik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 or a c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c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gress to more complex sent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actice this orally in groups also &amp; in Writ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Circling (dribbl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firmative question (+)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ther / or ?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還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stion with a negative answer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eat affirmative ques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08:21Z</dcterms:created>
  <dc:creator>Dad</dc:creator>
  <dc:description/>
  <dc:language>en-US</dc:language>
  <cp:lastModifiedBy>Monica</cp:lastModifiedBy>
  <dcterms:modified xsi:type="dcterms:W3CDTF">2009-09-14T03:14:15Z</dcterms:modified>
  <cp:revision>7</cp:revision>
  <dc:subject/>
  <dc:title>TPRS</dc:title>
</cp:coreProperties>
</file>